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48D5-5421-4830-8955-EFF751C60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oot_bi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E99-AB67-4C8F-ADE1-F361989B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923-27D4-475D-829D-73C834BA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2FF-381D-4B0E-824B-ECBAB5A9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701-A9AC-4F1D-B63F-BC73A5DB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E74-C366-4AFD-ABD0-5BDFC21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ED4-9109-4564-9A97-326A8D2A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7CA-D793-454E-ADDC-2C126CE1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BEB-78AA-4683-B7EA-76DFB483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82D-54B6-423A-9F45-EB522DB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6BB-3356-4112-A09B-7CA1CFF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5A4-9BBD-43AE-9253-CC766EF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1C3-FAEC-40E4-9A01-39E3050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8DFE-24C0-46AB-8C6C-36C7167C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cds.charlotte.nc.us/History/China/04/hutchins/hutchin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mage:FootBindingRxSchema2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People Alter Their Physical Appear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cient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Culture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, Eyebrow, Nose, Lip, Bellybutton, etc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-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’s Sho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th Century BCE -19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hoe pic.gif (45544 bytes)"/>
          <p:cNvPicPr/>
          <p:nvPr/>
        </p:nvPicPr>
        <p:blipFill>
          <a:blip r:embed="rId1"/>
          <a:stretch/>
        </p:blipFill>
        <p:spPr>
          <a:xfrm>
            <a:off x="2057400" y="1523880"/>
            <a:ext cx="4229280" cy="370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0960" y="5370480"/>
            <a:ext cx="73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ds.charlotte.nc.us/History/China/04/hutchins/hutchi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ootpic.gif (88129 bytes)"/>
          <p:cNvPicPr/>
          <p:nvPr/>
        </p:nvPicPr>
        <p:blipFill>
          <a:blip r:embed="rId1"/>
          <a:stretch/>
        </p:blipFill>
        <p:spPr>
          <a:xfrm>
            <a:off x="228600" y="228600"/>
            <a:ext cx="6019920" cy="4064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X-ray comparison between unbound and bound foot (schema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4702320"/>
            <a:ext cx="59626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02:15:52Z</dcterms:created>
  <dc:creator>Karoline</dc:creator>
  <dc:description/>
  <dc:language>en-US</dc:language>
  <cp:lastModifiedBy>Karoline</cp:lastModifiedBy>
  <dcterms:modified xsi:type="dcterms:W3CDTF">2008-04-20T18:19:28Z</dcterms:modified>
  <cp:revision>7</cp:revision>
  <dc:subject/>
  <dc:title>How Do People Alter Their Physical Appearance?</dc:title>
</cp:coreProperties>
</file>